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45.jpeg" ContentType="image/jpeg"/>
  <Override PartName="/ppt/media/image11.jpeg" ContentType="image/jpeg"/>
  <Override PartName="/ppt/media/image9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33.png" ContentType="image/png"/>
  <Override PartName="/ppt/media/image36.png" ContentType="image/png"/>
  <Override PartName="/ppt/media/image31.jpeg" ContentType="image/jpeg"/>
  <Override PartName="/ppt/media/image4.jpeg" ContentType="image/jpeg"/>
  <Override PartName="/ppt/media/image25.jpeg" ContentType="image/jpeg"/>
  <Override PartName="/ppt/media/image41.png" ContentType="image/png"/>
  <Override PartName="/ppt/media/image42.png" ContentType="image/png"/>
  <Override PartName="/ppt/media/image30.jpeg" ContentType="image/jpeg"/>
  <Override PartName="/ppt/media/image43.png" ContentType="image/png"/>
  <Override PartName="/ppt/media/image44.png" ContentType="image/pn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34.png" ContentType="image/png"/>
  <Override PartName="/ppt/media/image12.jpeg" ContentType="image/jpeg"/>
  <Override PartName="/ppt/media/image3.jpeg" ContentType="image/jpeg"/>
  <Override PartName="/ppt/media/image37.jpeg" ContentType="image/jpeg"/>
  <Override PartName="/ppt/media/image38.jpeg" ContentType="image/jpeg"/>
  <Override PartName="/ppt/media/image28.png" ContentType="image/png"/>
  <Override PartName="/ppt/media/image7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028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2280" y="0"/>
            <a:ext cx="30783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1800" y="766440"/>
            <a:ext cx="5118120" cy="383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036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2280" y="9720360"/>
            <a:ext cx="30783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294DB2A-67D2-45A4-BD54-92D7401F52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Vanilla_software" TargetMode="External"/><Relationship Id="rId2" Type="http://schemas.openxmlformats.org/officeDocument/2006/relationships/hyperlink" Target="http://en.wikipedia.org/wiki/Add-on" TargetMode="External"/><Relationship Id="rId3" Type="http://schemas.openxmlformats.org/officeDocument/2006/relationships/slide" Target="../slides/slide14.xml"/><Relationship Id="rId4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 with bookmarks: they are static; you can’t see them on other computers; you can’t easily share them with others; not flex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 tags = keywords =  categ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it work: 1) list of my bookma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for each one, I’ve listed some tags- can use these to 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If I’ve created a network, I can click here to see all of their bookmar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can see who else saved this item- how can we use th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s: Over 100 million bogs, 6,500 postings a day  I follow 46 blo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 THE OLD WAY- YOU GO OUT TO FIND NEW BLOGS OR 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W WAY- THEY COME TO YOU.  H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RSS (also Atom, XML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feeds (or subscriptions) are aggregated in one place- can scan them the same way we read the news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hasis – basic use of internet twofol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conn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uses of the medium altered how the medium functioned – in 2004, the term Web 2.0 was coined by Tim O’Reilley to describe this new way of using the internet  (also called “social media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 wiki invites all users to edit any page or to create new pages within the wiki Web site, using only a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lain-vanilla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Web browser without any extra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add-ons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Wiki promotes meaningful topic associations between different pages by making page link creation almost intuitively easy and showing whether an intended target page exists or not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 wiki is not a carefully crafted site for casual visitors. Instead it seeks to involve the visitor in an ongoing process of creation and collaboration that constantly changes the Web site landscap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2005, the Journal Nature found that, for science articles, Wikipedia was almost as accurate as Britannica.  Why- communities of interest grow up around topics and they tend to be self-polic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still requires time and diligence- like reading a news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le of content commun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se of creating and posting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ebook? Blogs? Podcasts? Wikipedia? YouTube? Flickr? Google Groups? Second Lif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SOCIAL (also called “social media” or “the social web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ABOUT THE U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PERSONALIZED- designed to respond to my needs &amp; inter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 1.0 – Webmaster is in control of the information and the experience; web as place to store information-focus for user is “find and acces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 2.0- focus is on participation- user is empowered- engaged in a process of co-cre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c types of tools- social media: focus on relationships (even associated with content creation), personalized productivity tools (RSS, podcasts, soc bookmarking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et Users:  18-29- 92%; 30-49- 85%; 65+- 3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ed- synergy between computer, TV, phone, iPod, P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info- as of April, 2008- there are at least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65,719,15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websites (Netcraft report) “Most of this month's growth of 3.1 million sites is seen in the US, with Google's Blogger service alone adding 1.1 million extra sites. 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it now- Pew teen reports dec 2007- teens are no longer emailing replaced by social networking, im’ing and texting- immedi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and a voice- we expect to be listened to  (example- web-based reviews of products and servic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store, organize and share the information we find on the internet today? (bookmarks, email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share information with our colleagues? E-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when we want to put a document in two different file fold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when we want others to have access to our documents (at their leis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find new information? (google search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riteria do we use to discover new inform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0D3E-FCEA-4462-8145-F350E82DC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2B1B-AB32-4393-A000-FEB31F647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451F-4FB3-4F10-BC2A-6BAA3BA3B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D770-BCCF-47C6-93F1-937AAE990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F017-0EBC-401C-B77A-277A740AE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7AF3-A2E9-4A32-89B7-999D81A82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DCB9-7476-4B6B-9338-D4D0A9B3D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A612-1B7B-4741-B2CF-D9B11427B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A201-85ED-4785-A6D6-F5308963D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E1F2-639D-4A47-89D9-CA4459581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CDE6-EA52-4960-A2F2-DEBEEC10A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0F1B-25F1-4095-BBF9-3C6A45295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8AAE3-7C10-4988-8AEB-2A0987C592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image" Target="../media/image24.jpeg"/><Relationship Id="rId10" Type="http://schemas.openxmlformats.org/officeDocument/2006/relationships/image" Target="../media/image25.jpeg"/><Relationship Id="rId11" Type="http://schemas.openxmlformats.org/officeDocument/2006/relationships/image" Target="../media/image26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5000" t="0" r="0" b="0"/>
          <a:stretch/>
        </p:blipFill>
        <p:spPr>
          <a:xfrm>
            <a:off x="-533520" y="0"/>
            <a:ext cx="9753840" cy="68547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28600" y="1752480"/>
            <a:ext cx="84582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The New Internet and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the Classroom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03400" y="15098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44280" y="4191120"/>
            <a:ext cx="433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rebuchet MS"/>
              </a:rPr>
              <a:t>Cool Tools For Teac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" cy="69343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7372440" y="1409760"/>
            <a:ext cx="1384200" cy="16002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7391520" y="3100320"/>
            <a:ext cx="1376280" cy="15242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7129440" y="538200"/>
            <a:ext cx="1619280" cy="6094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7315200" y="5715000"/>
            <a:ext cx="1495440" cy="7635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7377120" y="4753080"/>
            <a:ext cx="1362240" cy="8366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 flipH="1" flipV="1">
            <a:off x="4647960" y="2742840"/>
            <a:ext cx="533160" cy="685800"/>
          </a:xfrm>
          <a:prstGeom prst="line">
            <a:avLst/>
          </a:prstGeom>
          <a:ln w="1270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07560" y="204840"/>
            <a:ext cx="254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ocial Bookmar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7"/>
          <a:stretch/>
        </p:blipFill>
        <p:spPr>
          <a:xfrm>
            <a:off x="1523880" y="914400"/>
            <a:ext cx="4762800" cy="8287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8"/>
          <a:stretch/>
        </p:blipFill>
        <p:spPr>
          <a:xfrm>
            <a:off x="1486080" y="2085840"/>
            <a:ext cx="3466800" cy="6573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9"/>
          <a:stretch/>
        </p:blipFill>
        <p:spPr>
          <a:xfrm>
            <a:off x="1066680" y="3886200"/>
            <a:ext cx="5562720" cy="1851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95" name=""/>
          <p:cNvSpPr/>
          <p:nvPr/>
        </p:nvSpPr>
        <p:spPr>
          <a:xfrm flipH="1" flipV="1">
            <a:off x="5181480" y="1752120"/>
            <a:ext cx="533520" cy="685800"/>
          </a:xfrm>
          <a:prstGeom prst="line">
            <a:avLst/>
          </a:prstGeom>
          <a:ln w="1270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" cy="69343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rcRect l="1521" t="0" r="1521" b="0"/>
          <a:stretch/>
        </p:blipFill>
        <p:spPr>
          <a:xfrm>
            <a:off x="0" y="1371600"/>
            <a:ext cx="9144000" cy="44546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907560" y="76320"/>
            <a:ext cx="254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ocial Bookmar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61200" y="838080"/>
            <a:ext cx="248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icious.com/pliffgrie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" cy="69343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676520" y="2819520"/>
            <a:ext cx="1218960" cy="9144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7010280" y="2590920"/>
            <a:ext cx="1752840" cy="6379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5638680" y="1635120"/>
            <a:ext cx="1676520" cy="6444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6248520" y="5105520"/>
            <a:ext cx="2590560" cy="693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6"/>
          <a:stretch/>
        </p:blipFill>
        <p:spPr>
          <a:xfrm>
            <a:off x="1752480" y="4343400"/>
            <a:ext cx="1614600" cy="7272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7"/>
          <a:stretch/>
        </p:blipFill>
        <p:spPr>
          <a:xfrm>
            <a:off x="1447920" y="5715000"/>
            <a:ext cx="4647960" cy="6652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8"/>
          <a:stretch/>
        </p:blipFill>
        <p:spPr>
          <a:xfrm>
            <a:off x="2133720" y="1371600"/>
            <a:ext cx="2747880" cy="6858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9"/>
          <a:stretch/>
        </p:blipFill>
        <p:spPr>
          <a:xfrm>
            <a:off x="4724280" y="3200400"/>
            <a:ext cx="838440" cy="8287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410080" y="4038480"/>
            <a:ext cx="83844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562720" y="3733920"/>
            <a:ext cx="99036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562720" y="2895480"/>
            <a:ext cx="15238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4114800" y="4038480"/>
            <a:ext cx="91440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3352680" y="3886200"/>
            <a:ext cx="1371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257800" y="2286000"/>
            <a:ext cx="5335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4572000" y="2057040"/>
            <a:ext cx="457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2895480" y="3429000"/>
            <a:ext cx="1828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5562360" y="3733920"/>
            <a:ext cx="9903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5562360" y="2819520"/>
            <a:ext cx="1447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5333760" y="2286000"/>
            <a:ext cx="5331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057400"/>
            <a:ext cx="457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895480" y="3429000"/>
            <a:ext cx="1828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3352680" y="3809520"/>
            <a:ext cx="13716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4191120" y="4038120"/>
            <a:ext cx="91440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5486040" y="4038120"/>
            <a:ext cx="76212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773840" y="1371600"/>
            <a:ext cx="11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050"/>
                </a:solidFill>
                <a:latin typeface="Arial"/>
              </a:rPr>
              <a:t>R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0"/>
          <a:stretch/>
        </p:blipFill>
        <p:spPr>
          <a:xfrm>
            <a:off x="6553080" y="3733920"/>
            <a:ext cx="2057400" cy="8683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990720" y="152280"/>
            <a:ext cx="502920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Productivity and Professional Learn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Organizational Tools- Feed Aggreg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1"/>
          <a:stretch/>
        </p:blipFill>
        <p:spPr>
          <a:xfrm>
            <a:off x="6248520" y="533520"/>
            <a:ext cx="236196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" cy="69343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143000" y="457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219320" y="457200"/>
            <a:ext cx="495288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Productivity and Professional Learn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zational Tools- staying organ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752480" y="2286000"/>
            <a:ext cx="3353040" cy="15559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3657600" y="4218120"/>
            <a:ext cx="4029120" cy="10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" cy="69343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941040" y="13644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wik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rcRect l="0" t="0" r="3416" b="0"/>
          <a:stretch/>
        </p:blipFill>
        <p:spPr>
          <a:xfrm>
            <a:off x="6858000" y="2354400"/>
            <a:ext cx="2208240" cy="14554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6858000" y="4229280"/>
            <a:ext cx="1438200" cy="11048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rcRect l="0" t="0" r="9320" b="0"/>
          <a:stretch/>
        </p:blipFill>
        <p:spPr>
          <a:xfrm>
            <a:off x="6324480" y="457200"/>
            <a:ext cx="2462400" cy="10270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066680" y="3581280"/>
            <a:ext cx="5715000" cy="19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66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rebuchet MS"/>
              </a:rPr>
              <a:t>User </a:t>
            </a:r>
            <a:r>
              <a:rPr b="0" lang="en-US" sz="2000" spc="-1" strike="noStrike">
                <a:solidFill>
                  <a:srgbClr val="008000"/>
                </a:solidFill>
                <a:latin typeface="Trebuchet MS"/>
              </a:rPr>
              <a:t>- modified web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rebuchet MS"/>
              </a:rPr>
              <a:t>A communal workplace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66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rebuchet MS"/>
              </a:rPr>
              <a:t>collaborate on projects or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66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rebuchet MS"/>
              </a:rPr>
              <a:t>store and share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66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rebuchet MS"/>
              </a:rPr>
              <a:t>store and share administrative do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5"/>
          <a:stretch/>
        </p:blipFill>
        <p:spPr>
          <a:xfrm>
            <a:off x="2286000" y="304920"/>
            <a:ext cx="343836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" cy="69343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3128040" y="5805360"/>
            <a:ext cx="37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bje-cooltools.wikispaces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rcRect l="0" t="0" r="13035" b="0"/>
          <a:stretch/>
        </p:blipFill>
        <p:spPr>
          <a:xfrm>
            <a:off x="0" y="0"/>
            <a:ext cx="9239400" cy="50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" cy="69343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295280" y="228600"/>
            <a:ext cx="4303800" cy="38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ools for Creating Material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 Tools for creating and editing graphics and audio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6172200" y="2209680"/>
            <a:ext cx="2028960" cy="7430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6172200" y="533520"/>
            <a:ext cx="1990800" cy="10191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5943600" y="3733920"/>
            <a:ext cx="252396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" cy="69343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096920" y="289080"/>
            <a:ext cx="3627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Tools for Creating Material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6172200" y="380880"/>
            <a:ext cx="2590920" cy="14162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6400800" y="1905120"/>
            <a:ext cx="2133720" cy="842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057400" y="5410080"/>
            <a:ext cx="487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48% of internet users have been to video-sharing sites such as YouTube and the daily traffic to such sites on a typical day has doubled in the past year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952640" y="1182600"/>
            <a:ext cx="3519720" cy="24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rebuchet MS"/>
              </a:rPr>
              <a:t>Content is Social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8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rebuchet MS"/>
              </a:rPr>
              <a:t>Tag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8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8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rebuchet MS"/>
              </a:rPr>
              <a:t>User com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8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8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rebuchet MS"/>
              </a:rPr>
              <a:t>Content Comm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5943600" y="2895480"/>
            <a:ext cx="2909880" cy="7462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2743200" y="4267080"/>
            <a:ext cx="3057480" cy="7336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6"/>
          <a:stretch/>
        </p:blipFill>
        <p:spPr>
          <a:xfrm>
            <a:off x="6629400" y="4114800"/>
            <a:ext cx="191448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" cy="69343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371600" y="380880"/>
            <a:ext cx="3276720" cy="30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Tools For 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 tools that engage the lear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5867280" y="1305000"/>
            <a:ext cx="2610000" cy="6760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5943600" y="2514600"/>
            <a:ext cx="2600280" cy="10494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5848200" y="4357800"/>
            <a:ext cx="2838600" cy="82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" cy="69343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29528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880360" y="6172200"/>
            <a:ext cx="390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otographs taken from Flickr and stock.xch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" cy="69343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666880" y="762120"/>
            <a:ext cx="6477120" cy="48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Our  Goal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o become familiar with Web 2.0 &amp; why it matt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r the Jewish educ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o learn how to use a few basic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o learn where to find more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o take away resources that you can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28600" y="1752480"/>
            <a:ext cx="21844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" cy="69343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727360" y="925560"/>
            <a:ext cx="47401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o are we?- A Quick Surv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des we te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ject ma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et usag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" cy="6934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523880" y="1752480"/>
            <a:ext cx="66294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rebuchet MS"/>
              </a:rPr>
              <a:t>“…</a:t>
            </a:r>
            <a:r>
              <a:rPr b="0" lang="en-US" sz="2000" spc="-1" strike="noStrike">
                <a:solidFill>
                  <a:srgbClr val="3333cc"/>
                </a:solidFill>
                <a:latin typeface="Trebuchet MS"/>
              </a:rPr>
              <a:t>perceived second generation of web-based communities and hosted services — such as social networking sites, wikis, etc. — which facilitate collaboration and sharing between users.”  </a:t>
            </a:r>
            <a:r>
              <a:rPr b="0" lang="en-US" sz="2000" spc="-1" strike="noStrike">
                <a:solidFill>
                  <a:srgbClr val="3333cc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rebuchet MS"/>
              </a:rPr>
              <a:t>	</a:t>
            </a:r>
            <a:r>
              <a:rPr b="0" i="1" lang="en-US" sz="2000" spc="-1" strike="noStrike">
                <a:solidFill>
                  <a:srgbClr val="ff9900"/>
                </a:solidFill>
                <a:latin typeface="Trebuchet MS"/>
              </a:rPr>
              <a:t>(wikipedia.com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85040" y="3886200"/>
            <a:ext cx="33202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rebuchet MS"/>
              </a:rPr>
              <a:t>Web 2.0 is collabor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Trebuchet MS"/>
              </a:rPr>
              <a:t>    </a:t>
            </a:r>
            <a:r>
              <a:rPr b="0" lang="en-US" sz="2000" spc="-1" strike="noStrike">
                <a:solidFill>
                  <a:srgbClr val="800000"/>
                </a:solidFill>
                <a:latin typeface="Trebuchet MS"/>
              </a:rPr>
              <a:t>content cre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Trebuchet MS"/>
              </a:rPr>
              <a:t>    </a:t>
            </a:r>
            <a:r>
              <a:rPr b="0" lang="en-US" sz="2000" spc="-1" strike="noStrike">
                <a:solidFill>
                  <a:srgbClr val="800000"/>
                </a:solidFill>
                <a:latin typeface="Trebuchet MS"/>
              </a:rPr>
              <a:t>commu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Trebuchet MS"/>
              </a:rPr>
              <a:t>    </a:t>
            </a:r>
            <a:r>
              <a:rPr b="0" lang="en-US" sz="2000" spc="-1" strike="noStrike">
                <a:solidFill>
                  <a:srgbClr val="800000"/>
                </a:solidFill>
                <a:latin typeface="Trebuchet MS"/>
              </a:rPr>
              <a:t>conversa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Trebuchet MS"/>
              </a:rPr>
              <a:t>    </a:t>
            </a:r>
            <a:r>
              <a:rPr b="0" lang="en-US" sz="2000" spc="-1" strike="noStrike">
                <a:solidFill>
                  <a:srgbClr val="800000"/>
                </a:solidFill>
                <a:latin typeface="Trebuchet MS"/>
              </a:rPr>
              <a:t>cho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Trebuchet MS"/>
              </a:rPr>
              <a:t>    </a:t>
            </a:r>
            <a:r>
              <a:rPr b="0" lang="en-US" sz="2000" spc="-1" strike="noStrike">
                <a:solidFill>
                  <a:srgbClr val="800000"/>
                </a:solidFill>
                <a:latin typeface="Trebuchet MS"/>
              </a:rPr>
              <a:t>collecti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rebuchet MS"/>
              </a:rPr>
              <a:t>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48120" y="60948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Web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" cy="6934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828800" y="94464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cc00"/>
                </a:solidFill>
                <a:uFillTx/>
                <a:latin typeface="Arial"/>
              </a:rPr>
              <a:t>Web 1.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 u="sng">
                <a:solidFill>
                  <a:srgbClr val="660066"/>
                </a:solidFill>
                <a:uFillTx/>
                <a:latin typeface="Arial"/>
              </a:rPr>
              <a:t>Web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47920" y="1760400"/>
            <a:ext cx="70866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Web as information sour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Web as participation plat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Re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Read-wr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Lectu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 Conver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User pays atten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User has a v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Medium influences us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User influences med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Eliti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Democr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00760" y="5348160"/>
            <a:ext cx="532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1.0 was Commerce; Web 2.0 is Peopl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ss Mayfield, President, Social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997920" y="2666880"/>
            <a:ext cx="719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3% of teens are on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4% of online teens create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5% of online teens have a social networking pro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8% of online teens b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" cy="6934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105520" y="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600200" y="83808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y should this be important for u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" cy="6934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990720" y="15228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e Basic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rcRect l="0" t="9389" r="0" b="0"/>
          <a:stretch/>
        </p:blipFill>
        <p:spPr>
          <a:xfrm>
            <a:off x="304920" y="1371600"/>
            <a:ext cx="2747880" cy="44118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343400" y="1387440"/>
            <a:ext cx="3886200" cy="43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Social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k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Bl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Feed Aggregators/R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Social Bookmar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Conten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Podca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Virtual Environ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" cy="69343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447920" y="420840"/>
            <a:ext cx="739116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we use these tools in Jewish educ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tivity and professional le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cher tools for lesson creation and resource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8720" indent="-371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 Tools for learning- interactive, collaborative, enga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19720" y="3352680"/>
            <a:ext cx="3286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learn new th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interact and collaborate with o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emonstrate new skills or new 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304920" y="2819520"/>
            <a:ext cx="3886200" cy="30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" cy="69343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990720" y="228600"/>
            <a:ext cx="50292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Productivity and Professional Learn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ocial Bookmar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19320" y="1736640"/>
            <a:ext cx="495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rebuchet MS"/>
              </a:rPr>
              <a:t>Information is the lifeblood of our wor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401120" y="5257080"/>
            <a:ext cx="451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E-mail is where knowledge goes to die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Bill French, April 22,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248520" y="990720"/>
            <a:ext cx="2828880" cy="48006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343160" y="2711520"/>
            <a:ext cx="482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rebuchet MS"/>
              </a:rPr>
              <a:t>How do we access, store, organize, retrieve and share informa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362320" y="39304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rebuchet MS"/>
              </a:rPr>
              <a:t>How do we share information with our colleagu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7T23:45:21Z</dcterms:created>
  <dc:creator>BJE</dc:creator>
  <dc:description/>
  <dc:language>en-US</dc:language>
  <cp:lastModifiedBy>Phil Liff-Grieff</cp:lastModifiedBy>
  <dcterms:modified xsi:type="dcterms:W3CDTF">2009-01-18T06:58:10Z</dcterms:modified>
  <cp:revision>16</cp:revision>
  <dc:subject/>
  <dc:title>Slide 1</dc:title>
</cp:coreProperties>
</file>